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A66-3498-4427-96C5-BC77B678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79D-F016-4E81-B407-E08A00CF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EF20C-7CCB-47AF-9213-8A010987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B8CE4-CF7A-4123-A7A7-C93E645D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74B05-195A-46FF-8BE5-59C7D9BE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8F58C-CCEE-4CCC-B726-BCE04B72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7CD96-927E-4773-AE2E-A8A34843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7BCA7-F807-4E5E-BD57-A1165C35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1F857-0A5C-4F7F-B990-59004CAE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68694-F2E5-49A2-899C-420584B1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300AD-1AD7-43DC-8C2C-BA3098EF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4CCA0-966E-46CA-99C9-089A9D5F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79B-46B7-44D2-B96A-E802FA36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FA315-10C8-4E7B-B1F6-94591D28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92BC1-C70D-4549-A688-572898AD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2C19E-7F28-4A53-9727-5259F77C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7AF39-694C-4D09-9D16-5AD3E508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76B5E-EA00-43AC-8A38-F1F27FB2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5C544-31E1-4BC1-B5B7-FF07E47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CD5AF-A4F7-4306-93BF-97AED1E6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44BEE-1F67-4A0C-92AC-97B45614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E7AE5-C754-49E7-9A3B-0C29AF9A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4402F-DC8B-4B53-86E8-68866FB2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162-6E2E-4219-9074-1AC9B028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291B9-F141-4F24-87E6-E0B69D37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3C75E-F860-4B60-BDB0-F5AAAA80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62E18-FD1B-4A26-AFB6-BBA49BBC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71B8D-F9C2-4D6F-92BE-FFFDE5AA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C1F82-79C9-4701-B31F-7EDD3FE7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3A0C9-94E7-4AB2-9BE0-9B99253E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106F9-1787-4C03-9497-E88580E5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E463E-6EF5-4A4D-B68C-B765DFDC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4719F-84FF-4E0C-B922-6CB4999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AF6B7-9424-49B0-A893-D2872D8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18D1-6C0A-4B26-A47B-23C2B974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1EC0F-DD3D-41C6-8FBE-828B815F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A4AE8-F411-454C-B838-15018E35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9760B-FA27-4AA8-9CF2-97F446C7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1EFD6-5DFC-48FF-B0DF-D21A9137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631E1-F3A1-40BC-BFD2-A3FC7179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0CA12-644C-40F8-B847-276E3CF8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F4A6C-6517-4E56-AF7C-B1C03E7D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12802-2B29-4C98-873C-9F377606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AF050-CC3A-48BC-9A15-52C16734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7D3AD-80F5-47CD-8C5D-5164E1F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2CD6-8627-4A80-BBA9-DDC8B17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9F78E-1F0B-4816-B4DF-2BC8A435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934AD-78E5-4D15-9D73-0B931B20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CC8A2-0967-4296-9E36-D95D7234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4CC58-BE2A-460E-B06C-57192C8A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DE06A-8177-444B-A2F7-F1DA0F88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9440-D92F-410C-9EA0-E3F7BB6E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54A5-584C-4A93-A954-3FD5A8ED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49A-9AA5-4808-B73A-B83D6D94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48BC-D99E-43C3-B1D7-1CA7CCFC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0DE2-187C-4C8A-8F21-7712802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ADD-2BA1-4592-BAAD-BDC346E5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D4C3-971F-4F02-AEA9-3D88A092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2F90-E19C-471C-8164-9A15953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C85F-D307-4BBF-8457-CB989B8E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96A1-EAC1-45B3-B891-E1927597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0033-3501-4E87-B7D1-FE4E6767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AA80-F851-4D75-A8CC-7AE68C18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3616-5599-40EB-8DEF-61ADF81D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42FB-DACF-4204-AC1F-62510440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330F-82D9-4882-84CB-01559F57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6982-F7C1-40FB-95BC-360CF57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280-DE8F-4153-97E7-13F5BF79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2BC74-CE1F-4A78-A46B-54AA810D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5641-A4D7-4525-A3E8-A56E4FB7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E26D-79D4-4A77-A68E-9954D66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39D9-2757-4516-87E6-47C7F2B3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7C9B-3CE4-464E-895B-422BC2C8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079E-1FD2-4B62-9E10-8D33B3A6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093C-46D9-42D8-80CC-F148FD63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1E70-BC4D-4818-A5F9-A4F1C45E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AFC21-CA82-4E97-B943-8026336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0B1F-518A-4FD3-829B-5524E8E1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57A-8A4B-4E90-99A2-CAA1D829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07E9-EBCC-40F4-9985-412F5632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2576-D2C2-411B-A193-2766E58F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2B4A-7A03-487C-9922-A5DFA392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3D7E-EC85-4F8C-9D73-FE6881D5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1494-09DB-4E25-B75F-85E88149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3790-97E9-47E2-A608-E24BCB03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F735-9AC4-4D7B-B2E0-7A342754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7BC8E-2869-4FB6-AE95-860D2A2C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C3C0-624E-439D-8A7B-88D893E3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69BE0-DF20-45E1-A6A7-2A0B5F16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373-47DE-476F-BDEE-84185D11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A8779-5C28-49E6-AFE8-2F5F19D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BD882-973E-4E77-966A-2E4FA0D2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3A63-DB33-4344-B05C-7F077403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E6227-75EE-47F8-AE19-D299925F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7A82F-41AE-4BF0-930D-86768D7B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52FF7-6632-4FDA-A630-1D81B21A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5139B-24BD-464D-A2A2-24B428D9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36BE-DDC4-497A-AD59-61A71F0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DE5DF-2924-49DE-88D2-E6B471A5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68D3-A65A-4EE5-9AB7-4AF7DC62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02F-A3B0-4D14-82A9-8864A769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5C795-A015-489D-BE0A-AB74EAB5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DE758-C1B8-4F18-A25E-AEEE12E9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378C-84E1-4EB5-94F1-6EE853E2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467E-1D9B-42C7-8197-1226C924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C58A2-F16F-4D64-84CF-A6188D0A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1F87-939B-40A5-A0E7-42C5D4BD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6F0C1-2A07-4701-B464-264E555B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40F0E-ACC5-41AB-A577-0A6A50A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22C1F-7B85-45E5-9957-4ADEA0DA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7A73-AA26-4B17-AB00-9EDD2A3D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5DB-0727-4345-AFF5-EC590BA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7543B-4305-4464-A0A6-0037040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68AA8-81AB-48D1-888C-1CF3A141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4F81-E8E7-4C59-8488-2FBFB485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E806-1D50-451E-ADE4-8A6A3302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1A5D8-2DC0-4185-B8C4-F5A05050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9D665-2F5C-4E63-A354-CC8170CA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83338-2E79-4066-93CE-BD75C759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F172F-B628-4FEF-9F56-DA6B318B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33FB9-B8E5-4B02-8090-FED54543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ADFA1-26C6-4197-8B1B-8D9A375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28A-D38D-4573-8EB3-34CAA394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A8DDB-DC53-407C-B2B9-B4E63C96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D93B3-B5EF-4346-B767-F196265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56F88-2DD8-4D9C-B8D5-C1F3381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D700C-127F-4F24-9B77-D3926355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1B337-4357-4470-903E-924835F9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7DC0F-F203-46C3-9876-3D86C2F2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82B8A-884D-45CE-AA27-FF8A710E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9B4B7-1D49-488D-8C26-A19936C9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87147-6A2D-428F-964D-B8AF63AD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2D30B-91E1-4F78-A4AE-A94C1653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722-66C7-48F9-AE14-57FDB33C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29C62-7DB8-44A4-B3E1-DF2BB3E5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F5F3E-336D-479E-854F-7E3BECF5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99B6E-E5C4-4F9E-B25D-6D03BAFC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F7D00-5D57-457D-A6BE-36166F09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96D7-FFAB-4281-B01D-17EB317C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D8809-2D6E-43B4-82F1-E453D09A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AD989-A7EA-4AAB-A2BA-BA6D9335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5E610-817A-476F-A9FC-D2E3EE5A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F567F-6C42-4A1B-9F1A-CBFDAEFB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C1091-AD79-4325-8EBB-10619CC8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5AA3-7814-44EA-9EF5-FC21F1405F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80F2-48A4-42CC-BF29-6F71978249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9B16-841D-4269-9C25-13A1CA75F8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6B58-7575-4913-BCC7-D306354D28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2F4C-1E7B-483D-9138-1242646C03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8075-1E98-4E59-9CFE-8D17FDEE25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41AD-D19C-4A93-9D2E-B48D39A3EA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BC58-E5DC-4288-AC7E-1FAC06286B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2AEE-E2FC-47AC-BCBE-58EFD64185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5AEB-EC36-44D1-B3BF-4D29C224F4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8D78-7277-4C66-9C6E-6F796E5D4F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0D37-C739-4F17-8057-2F91914C0E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0 Keď Pán Ježiš opäť prí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aj ja so spasený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konečne blažený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ospevmi radostný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a večne sláv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em smie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án Ježiš opäť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žiari zem slávy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tne nové, krásne rán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e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í, čo v neho uveri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ú jasať v onen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ich vezme k seb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ú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aj ja so spasený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konečne blažený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ospevmi radostný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a večne sláv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em smie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ŕtvi v Kristu vstanú z hrob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ám Pán ich zavol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í živí telo nové dostan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lu radovať sa bud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ich smrť už nezdolá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tedy všetky sveta strasti presta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aj ja so spasený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konečne blažený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ospevmi radostný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a večne sláv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em smie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e pracujme pre Kris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írme jeho spásnu zvesť,</a:t>
            </a:r>
            <a:br>
              <a:rPr sz="48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túto úlohu on z lásky zveril nám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mnohí prijali 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li mu chválu,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eď príde, vošli s n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nebies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06T18:56:05Z</dcterms:modified>
  <cp:revision>7</cp:revision>
  <dc:subject/>
  <dc:title>Je veľký náš Pán, on slávy je Kráľ Nech do všetkých strán  spev vrúcnych znie chvál.</dc:title>
</cp:coreProperties>
</file>